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702-ACA3-429A-B373-3EF6AC4C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876-BF5F-4464-A63C-1CC88B7A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61A-28DF-42BF-BFED-1C8C3CEA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513-A41F-4D1F-8F6D-6D8C9615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2E7-D8B1-44DA-A8B9-74F78019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868-D154-4E76-8C19-1F014562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1AE-FB22-495E-AB6D-4DE3C571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F54-9C68-47D7-8986-E850D0B3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42D-433E-43B6-977A-5559D5D2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A61-96CC-45C2-957A-4225679B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E2F-5F8F-4128-BFBB-8F6ED128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1C3-4237-4E8E-B304-648A80C7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DDCC-FFC1-4DEB-A23B-0AA214C3D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7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y Favorite 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gsrne.org/fundraisers/2008auction/auction.pics.2008/Toy%20Box2.JPG"/>
          <p:cNvPicPr/>
          <p:nvPr/>
        </p:nvPicPr>
        <p:blipFill>
          <a:blip r:embed="rId1"/>
          <a:srcRect l="0" t="15181" r="0" b="6620"/>
          <a:stretch/>
        </p:blipFill>
        <p:spPr>
          <a:xfrm>
            <a:off x="762120" y="1192320"/>
            <a:ext cx="3657600" cy="286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www.solarinc.org/gallery/photos/Clanthia-Archive/roleplaying1.jpg"/>
          <p:cNvPicPr/>
          <p:nvPr/>
        </p:nvPicPr>
        <p:blipFill>
          <a:blip r:embed="rId2"/>
          <a:stretch/>
        </p:blipFill>
        <p:spPr>
          <a:xfrm>
            <a:off x="4808520" y="1192320"/>
            <a:ext cx="3591000" cy="4333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t0.gstatic.com/images?q=tbn:ANd9GcTzKzlLzbkhgvMBIlGImENWtkpXn9isADWNiGwISSaHd1I_sYY0&amp;t=1"/>
          <p:cNvPicPr/>
          <p:nvPr/>
        </p:nvPicPr>
        <p:blipFill>
          <a:blip r:embed="rId3"/>
          <a:srcRect l="0" t="9417" r="0" b="0"/>
          <a:stretch/>
        </p:blipFill>
        <p:spPr>
          <a:xfrm>
            <a:off x="1295280" y="4330800"/>
            <a:ext cx="3657600" cy="215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562720" y="571500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LC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rense.com/general83/img1.jpg"/>
          <p:cNvPicPr/>
          <p:nvPr/>
        </p:nvPicPr>
        <p:blipFill>
          <a:blip r:embed="rId1"/>
          <a:srcRect l="9528" t="-5694" r="5118" b="11670"/>
          <a:stretch/>
        </p:blipFill>
        <p:spPr>
          <a:xfrm>
            <a:off x="-14400" y="-533520"/>
            <a:ext cx="9296640" cy="764856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1447920" y="3808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ODAY’S DEMONST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 rot="21220200">
            <a:off x="23040" y="3176640"/>
            <a:ext cx="157788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bec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 rot="1425600">
            <a:off x="1641600" y="3366000"/>
            <a:ext cx="157824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ina Hart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0800">
            <a:off x="3340080" y="3048120"/>
            <a:ext cx="227808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teven Christe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670720" y="3460680"/>
            <a:ext cx="21049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rius Pfeif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253200">
            <a:off x="7848720" y="3460680"/>
            <a:ext cx="14335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6:17:42Z</dcterms:created>
  <dc:creator>Dr. Kristine B. Hartney</dc:creator>
  <dc:description/>
  <dc:language>en-US</dc:language>
  <cp:lastModifiedBy>Dr. Kristine B. Hartney</cp:lastModifiedBy>
  <dcterms:modified xsi:type="dcterms:W3CDTF">2011-03-13T07:25:08Z</dcterms:modified>
  <cp:revision>6</cp:revision>
  <dc:subject/>
  <dc:title>PowerPoint Presentation</dc:title>
</cp:coreProperties>
</file>